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45365-8B48-4DC0-9E75-7A857A601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86ECD-E23D-4810-988D-01DE93026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2107D-47B4-4070-8E17-C81F2F5BC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0E21B-6964-4D34-8D86-FC0C769F9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20AB-1CC5-4EF8-87EB-9A919886A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DA7E7-42E7-4B55-ABF9-4AD443AD2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B5F15-E424-4F8D-8E01-6624EA490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73B2A-2DBB-4884-8C8F-5810538D0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413CB-6F2C-4177-B065-522FB6591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10902-4888-47D0-8F7C-553D635E5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33F7E-50B3-47FA-BD18-27DFCD5D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D262-6143-49F4-B818-71C5FE6FC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1495-0326-4AF9-BF28-64D4840C4B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1" name=""/>
          <p:cNvSpPr/>
          <p:nvPr/>
        </p:nvSpPr>
        <p:spPr>
          <a:xfrm>
            <a:off x="-210960" y="1828800"/>
            <a:ext cx="9629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Semibold"/>
              </a:rPr>
              <a:t>Now that the Nation’s Grow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Semibold"/>
              </a:rPr>
              <a:t>How Do I Get Arou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62120" y="714240"/>
            <a:ext cx="7619760" cy="542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2" name=""/>
          <p:cNvSpPr/>
          <p:nvPr/>
        </p:nvSpPr>
        <p:spPr>
          <a:xfrm>
            <a:off x="685800" y="1143000"/>
            <a:ext cx="762012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Semibold"/>
              </a:rPr>
              <a:t>It took over 250 years from the settlement at Jamestown until 1870 to turn 400 million acres of forest and praries to flourishing farms.  Settling the second 400 million acres took only 30 year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Semibold"/>
              </a:rPr>
              <a:t>Explain what accounted for the rapid transformation from 1870-189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3" name=""/>
          <p:cNvSpPr/>
          <p:nvPr/>
        </p:nvSpPr>
        <p:spPr>
          <a:xfrm>
            <a:off x="934920" y="446040"/>
            <a:ext cx="6075360" cy="628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Semibold"/>
              </a:rPr>
              <a:t>Federal Land Polic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1850-1871 the federal government made huge land grants to the railroads</a:t>
            </a:r>
            <a:endParaRPr b="0" lang="en-US" sz="2400" spc="-1" strike="noStrike">
              <a:solidFill>
                <a:srgbClr val="000000"/>
              </a:solidFill>
              <a:latin typeface="Arial"/>
            </a:endParaRPr>
          </a:p>
          <a:p>
            <a:pPr lvl="1" marL="457200">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170 million acres worth a half a billion dollars- for laying track in the West</a:t>
            </a:r>
            <a:endParaRPr b="0" lang="en-US" sz="2400" spc="-1" strike="noStrike">
              <a:solidFill>
                <a:srgbClr val="000000"/>
              </a:solidFill>
              <a:latin typeface="Arial"/>
            </a:endParaRPr>
          </a:p>
          <a:p>
            <a:pPr lvl="1" marL="457200">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In one grant both the Union Pacific and the Central Pacific received:</a:t>
            </a:r>
            <a:endParaRPr b="0" lang="en-US" sz="2400" spc="-1" strike="noStrike">
              <a:solidFill>
                <a:srgbClr val="000000"/>
              </a:solidFill>
              <a:latin typeface="Arial"/>
            </a:endParaRPr>
          </a:p>
          <a:p>
            <a:pPr lvl="2" marL="914400">
              <a:lnSpc>
                <a:spcPct val="100000"/>
              </a:lnSpc>
              <a:buClr>
                <a:srgbClr val="000000"/>
              </a:buClr>
              <a:buFont typeface="Baskerville Semi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 </a:t>
            </a:r>
            <a:r>
              <a:rPr b="0" lang="en-US" sz="2400" spc="-1" strike="noStrike">
                <a:solidFill>
                  <a:srgbClr val="000000"/>
                </a:solidFill>
                <a:latin typeface="Baskerville Semibold"/>
              </a:rPr>
              <a:t>10 square miles of public land for every mile of track laid in a state</a:t>
            </a:r>
            <a:endParaRPr b="0" lang="en-US" sz="2400" spc="-1" strike="noStrike">
              <a:solidFill>
                <a:srgbClr val="000000"/>
              </a:solidFill>
              <a:latin typeface="Arial"/>
            </a:endParaRPr>
          </a:p>
          <a:p>
            <a:pPr lvl="2" marL="914400">
              <a:lnSpc>
                <a:spcPct val="100000"/>
              </a:lnSpc>
              <a:buClr>
                <a:srgbClr val="000000"/>
              </a:buClr>
              <a:buFont typeface="Baskerville Semi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 </a:t>
            </a:r>
            <a:r>
              <a:rPr b="0" lang="en-US" sz="2400" spc="-1" strike="noStrike">
                <a:solidFill>
                  <a:srgbClr val="000000"/>
                </a:solidFill>
                <a:latin typeface="Baskerville Semibold"/>
              </a:rPr>
              <a:t>20 square miles of land for every mile of track laid in a terri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4" name=""/>
          <p:cNvSpPr/>
          <p:nvPr/>
        </p:nvSpPr>
        <p:spPr>
          <a:xfrm>
            <a:off x="1716120" y="351000"/>
            <a:ext cx="521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38080" y="338040"/>
            <a:ext cx="7239240" cy="45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Semibold"/>
              </a:rPr>
              <a:t>Homestead Ac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1862 Congress passed the Homestead 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 </a:t>
            </a:r>
            <a:r>
              <a:rPr b="0" lang="en-US" sz="2400" spc="-1" strike="noStrike">
                <a:solidFill>
                  <a:srgbClr val="000000"/>
                </a:solidFill>
                <a:latin typeface="Baskerville Semibold"/>
              </a:rPr>
              <a:t>160 acres of land free to any citizen or intended citizen who was head of househ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1862-1900 up to 600,000 families took advantage of governments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6" name=""/>
          <p:cNvSpPr/>
          <p:nvPr/>
        </p:nvSpPr>
        <p:spPr>
          <a:xfrm>
            <a:off x="1676520" y="38088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676520" y="436680"/>
            <a:ext cx="6019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371600" y="361800"/>
            <a:ext cx="6324480" cy="792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Negative Effec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 </a:t>
            </a:r>
            <a:r>
              <a:rPr b="0" lang="en-US" sz="2400" spc="-1" strike="noStrike">
                <a:solidFill>
                  <a:srgbClr val="000000"/>
                </a:solidFill>
                <a:latin typeface="Baskerville Semibold"/>
              </a:rPr>
              <a:t>Private speculators, railroads and state government agents used the land grant for their personal gains.</a:t>
            </a: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Cattlemen fenced in open land</a:t>
            </a: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Miners and woodcutters claimed natural resources</a:t>
            </a: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Only about 10 percent of the land was actually settled by the families for whom it was inte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523880"/>
            <a:ext cx="9144000" cy="4024440"/>
          </a:xfrm>
          <a:prstGeom prst="rect">
            <a:avLst/>
          </a:prstGeom>
          <a:ln w="0">
            <a:noFill/>
          </a:ln>
        </p:spPr>
      </p:pic>
      <p:sp>
        <p:nvSpPr>
          <p:cNvPr id="50" name=""/>
          <p:cNvSpPr/>
          <p:nvPr/>
        </p:nvSpPr>
        <p:spPr>
          <a:xfrm>
            <a:off x="533520" y="609480"/>
            <a:ext cx="267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186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1219320"/>
            <a:ext cx="9144000" cy="4354560"/>
          </a:xfrm>
          <a:prstGeom prst="rect">
            <a:avLst/>
          </a:prstGeom>
          <a:ln w="0">
            <a:noFill/>
          </a:ln>
        </p:spPr>
      </p:pic>
      <p:sp>
        <p:nvSpPr>
          <p:cNvPr id="52" name=""/>
          <p:cNvSpPr/>
          <p:nvPr/>
        </p:nvSpPr>
        <p:spPr>
          <a:xfrm>
            <a:off x="537480" y="3808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18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5800" y="304920"/>
            <a:ext cx="7772400" cy="638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2120" y="1085760"/>
            <a:ext cx="7619760" cy="468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00:43:12Z</dcterms:created>
  <dc:creator>Lauren</dc:creator>
  <dc:description/>
  <dc:language>en-US</dc:language>
  <cp:lastModifiedBy>WPS</cp:lastModifiedBy>
  <dcterms:modified xsi:type="dcterms:W3CDTF">2010-11-01T19:30:55Z</dcterms:modified>
  <cp:revision>10</cp:revision>
  <dc:subject/>
  <dc:title>Slide 1</dc:title>
</cp:coreProperties>
</file>